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49E-2829-4F76-9BD3-763B1F34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E50-222F-4220-9DE4-AFA508A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2B9-C7C6-4D43-A407-CCC64768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197-E434-4A52-BA1B-066F8A16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B74-3DAB-4846-AA17-34CD664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E9C-81DB-43A1-A1FA-274354C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B64-7C03-4BD0-8B9F-4F8DDE8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81E-D687-4942-82C1-C3A0E16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C3A-C845-4EDC-A3B7-F0FC1024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9C5-B8E2-4CDC-972B-2A456EA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727-F7F5-4CF0-A446-18805BD9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CD6-8FC8-423E-BDCE-835757B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CB3-D974-4CB3-A877-7FE877877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8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6264000" cy="220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532560" cy="3811680"/>
          </a:xfrm>
          <a:prstGeom prst="rect">
            <a:avLst/>
          </a:prstGeom>
          <a:ln w="0">
            <a:noFill/>
          </a:ln>
        </p:spPr>
      </p:pic>
      <p:sp>
        <p:nvSpPr>
          <p:cNvPr id="77" name="Овал 2"/>
          <p:cNvSpPr/>
          <p:nvPr/>
        </p:nvSpPr>
        <p:spPr>
          <a:xfrm>
            <a:off x="2987640" y="3716280"/>
            <a:ext cx="151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3211560" y="5597640"/>
            <a:ext cx="115236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760068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71720" y="853920"/>
            <a:ext cx="7000560" cy="514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16320" y="6093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2400" y="1147680"/>
            <a:ext cx="7099200" cy="4562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42092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900000" y="1773360"/>
                <a:ext cx="7728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924280"/>
                <a:ext cx="2087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114480"/>
            <a:ext cx="5975280" cy="136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28720" y="1641600"/>
            <a:ext cx="47512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Овал 7"/>
          <p:cNvSpPr/>
          <p:nvPr/>
        </p:nvSpPr>
        <p:spPr>
          <a:xfrm>
            <a:off x="2124000" y="57326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88976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4284720" y="6524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204840"/>
            <a:ext cx="6818400" cy="214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55640" y="2354400"/>
            <a:ext cx="690408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Выгнутая вниз стрелка 1"/>
          <p:cNvSpPr/>
          <p:nvPr/>
        </p:nvSpPr>
        <p:spPr>
          <a:xfrm>
            <a:off x="4932360" y="4581360"/>
            <a:ext cx="503280" cy="142920"/>
          </a:xfrm>
          <a:custGeom>
            <a:avLst/>
            <a:gdLst>
              <a:gd name="textAreaLeft" fmla="*/ 112320 w 503280"/>
              <a:gd name="textAreaRight" fmla="*/ 37296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-3598487"/>
                <a:lnTo>
                  <a:pt x="21294" y="5400"/>
                </a:lnTo>
                <a:lnTo>
                  <a:pt x="20067" y="0"/>
                </a:lnTo>
                <a:lnTo>
                  <a:pt x="18228" y="5400"/>
                </a:lnTo>
                <a:lnTo>
                  <a:pt x="18994" y="5400"/>
                </a:lnTo>
                <a:arcTo wR="9650" hR="21600" stAng="1801513" swAng="3476079"/>
                <a:lnTo>
                  <a:pt x="10417" y="21532"/>
                </a:lnTo>
                <a:arcTo wR="9650" hR="21600" stAng="5522408" swAng="5277592"/>
                <a:close/>
              </a:path>
              <a:path fill="darkenLess"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122408"/>
                <a:lnTo>
                  <a:pt x="10417" y="21532"/>
                </a:lnTo>
                <a:arcTo wR="9650" hR="21600" stAng="5522408" swAng="5277592"/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81740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42880" y="74520"/>
            <a:ext cx="6258240" cy="67089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211640" y="5661000"/>
            <a:ext cx="128520" cy="7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211640" y="6021360"/>
            <a:ext cx="152280" cy="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10080" y="6031080"/>
            <a:ext cx="152280" cy="9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7817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15840"/>
            <a:ext cx="695304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22440" y="3284640"/>
            <a:ext cx="5452920" cy="1795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3850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"/>
          <p:cNvSpPr/>
          <p:nvPr/>
        </p:nvSpPr>
        <p:spPr>
          <a:xfrm>
            <a:off x="1476360" y="3894120"/>
            <a:ext cx="4572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2520" y="671400"/>
            <a:ext cx="6977160" cy="5513400"/>
          </a:xfrm>
          <a:prstGeom prst="rect">
            <a:avLst/>
          </a:prstGeom>
          <a:ln w="0">
            <a:noFill/>
          </a:ln>
        </p:spPr>
      </p:pic>
      <p:sp>
        <p:nvSpPr>
          <p:cNvPr id="70" name="Овал 1"/>
          <p:cNvSpPr/>
          <p:nvPr/>
        </p:nvSpPr>
        <p:spPr>
          <a:xfrm>
            <a:off x="5219640" y="4365720"/>
            <a:ext cx="4572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8462160" y="6308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47880" y="206280"/>
            <a:ext cx="6976800" cy="6391440"/>
          </a:xfrm>
          <a:prstGeom prst="rect">
            <a:avLst/>
          </a:prstGeom>
          <a:ln w="0">
            <a:noFill/>
          </a:ln>
        </p:spPr>
      </p:pic>
      <p:sp>
        <p:nvSpPr>
          <p:cNvPr id="73" name="Овал 1"/>
          <p:cNvSpPr/>
          <p:nvPr/>
        </p:nvSpPr>
        <p:spPr>
          <a:xfrm>
            <a:off x="1187280" y="3402000"/>
            <a:ext cx="216072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673040" y="6381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34:59Z</dcterms:created>
  <dc:creator>User</dc:creator>
  <dc:description/>
  <dc:language>en-US</dc:language>
  <cp:lastModifiedBy>User</cp:lastModifiedBy>
  <dcterms:modified xsi:type="dcterms:W3CDTF">2021-04-25T11:03:40Z</dcterms:modified>
  <cp:revision>16</cp:revision>
  <dc:subject/>
  <dc:title>Презентация PowerPoint</dc:title>
</cp:coreProperties>
</file>